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0F6-6F27-4FDB-A82F-686C698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A05-2912-472D-9D58-DD57A1D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D0F-799C-485A-A35D-7B7B9E56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9A-2720-4B74-ADE4-CCA60985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84D0-CCB2-48A8-A9AD-197DA255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ACCB-BB41-4CC0-BCA6-6DF1FE5D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0EFC-972C-41E3-9B37-3BDC1DC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B88-97C0-4EB2-99A4-A7A712A0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7BE4-8C27-4AC2-B67A-7627F8A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0A9-543D-45D2-9081-B69C396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7649-31F3-40E3-B758-FEC9AC6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501-6179-40A9-8522-42E22EC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5DC-44AA-4CA7-B370-FF513CC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CFD9-ED5E-4604-AD22-A98786B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7C9-C801-4CC7-8BAC-3E78FB5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85E9-5185-43EC-B1DD-0D8F18D2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DEB4-5225-45D2-9CF8-18B11860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2A1-0EB1-41A2-94AD-CB81CCC7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225-51B2-46D7-88D5-3E8AFDC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393-78D9-43A3-BA62-F62EFE2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251-4F9D-4B26-903A-98FEB5D2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D5C-D517-4CCE-B921-3791EC1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EA7-9F3F-45D0-A8B3-AA196D5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BEB-6CD5-4FCA-8D7B-917D769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004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009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8ff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245-F1AD-484F-A394-018BD0C9F433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172-3F24-442E-A1F0-49020F46DCE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werpoint title 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004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009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8ff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D778-D729-4ED5-A33E-6F49C0BC1AB2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D397-E344-487F-BF25-DFD5A862502E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7E9-3D6C-4191-91C6-91D87151F52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ECF-7157-446C-8BCF-647B164FD95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87" name="Group 55"/>
          <p:cNvGrpSpPr/>
          <p:nvPr/>
        </p:nvGrpSpPr>
        <p:grpSpPr>
          <a:xfrm>
            <a:off x="5358960" y="3530160"/>
            <a:ext cx="3407760" cy="2797920"/>
            <a:chOff x="5358960" y="3530160"/>
            <a:chExt cx="3407760" cy="2797920"/>
          </a:xfrm>
        </p:grpSpPr>
        <p:sp>
          <p:nvSpPr>
            <p:cNvPr id="88" name="Line 7"/>
            <p:cNvSpPr/>
            <p:nvPr/>
          </p:nvSpPr>
          <p:spPr>
            <a:xfrm flipH="1">
              <a:off x="8185320" y="4526280"/>
              <a:ext cx="4212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 rot="530400">
              <a:off x="7788240" y="4805280"/>
              <a:ext cx="802080" cy="59580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6113880" y="5091480"/>
              <a:ext cx="2520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 flipH="1" flipV="1">
              <a:off x="6113520" y="5253120"/>
              <a:ext cx="2005200" cy="31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 flipV="1">
              <a:off x="8119440" y="5294880"/>
              <a:ext cx="4212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 rot="530400">
              <a:off x="6626160" y="5214960"/>
              <a:ext cx="975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6246720" y="572004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AutoShape 19"/>
            <p:cNvSpPr/>
            <p:nvPr/>
          </p:nvSpPr>
          <p:spPr>
            <a:xfrm rot="530400">
              <a:off x="6500520" y="550116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Line 22"/>
            <p:cNvSpPr/>
            <p:nvPr/>
          </p:nvSpPr>
          <p:spPr>
            <a:xfrm flipH="1">
              <a:off x="5898240" y="5060520"/>
              <a:ext cx="4212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AutoShape 24"/>
            <p:cNvSpPr/>
            <p:nvPr/>
          </p:nvSpPr>
          <p:spPr>
            <a:xfrm rot="530400">
              <a:off x="5399280" y="532980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6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 flipH="1" flipV="1">
              <a:off x="7485480" y="5022720"/>
              <a:ext cx="300240" cy="4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AutoShape 29"/>
            <p:cNvSpPr/>
            <p:nvPr/>
          </p:nvSpPr>
          <p:spPr>
            <a:xfrm rot="530400">
              <a:off x="6635880" y="463212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 flipH="1" flipV="1">
              <a:off x="6382080" y="485100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 rot="530400">
              <a:off x="5534640" y="446076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>
              <a:off x="7618320" y="4153680"/>
              <a:ext cx="300240" cy="4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 rot="530400">
              <a:off x="7923600" y="3938400"/>
              <a:ext cx="802080" cy="59364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6517080" y="398232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 rot="530400">
              <a:off x="6770880" y="376344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AutoShape 47"/>
            <p:cNvSpPr/>
            <p:nvPr/>
          </p:nvSpPr>
          <p:spPr>
            <a:xfrm rot="530400">
              <a:off x="5669640" y="3592080"/>
              <a:ext cx="853560" cy="593640"/>
            </a:xfrm>
            <a:prstGeom prst="roundRect">
              <a:avLst>
                <a:gd name="adj" fmla="val 227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Line 50"/>
            <p:cNvSpPr/>
            <p:nvPr/>
          </p:nvSpPr>
          <p:spPr>
            <a:xfrm>
              <a:off x="7348320" y="5891400"/>
              <a:ext cx="25092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8" name="AutoShape 52"/>
            <p:cNvSpPr/>
            <p:nvPr/>
          </p:nvSpPr>
          <p:spPr>
            <a:xfrm rot="530400">
              <a:off x="7602120" y="567216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9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9" name="Text Box 56"/>
          <p:cNvSpPr/>
          <p:nvPr/>
        </p:nvSpPr>
        <p:spPr>
          <a:xfrm>
            <a:off x="9396360" y="595440"/>
            <a:ext cx="3888000" cy="1313640"/>
          </a:xfrm>
          <a:prstGeom prst="rect">
            <a:avLst/>
          </a:prstGeom>
          <a:solidFill>
            <a:srgbClr val="ffc9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any of the tasks on this presentation refer to ‘Climate Clothing’ – an independent fashion retail business situated in a local t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73212 -1.85185E-006 E">
                                      <p:cBhvr>
                                        <p:cTn id="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FC1-A55D-4814-8B33-873B55CA83B7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E1A6-0BD7-4C50-B942-406BDB47602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3. Person specifica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Person specifica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rofile of the type of person needed to do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up from the job analysis and job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the basis for the selection of the most suitable person to fill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and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intelligence (I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sed skills – e.g. familiar with I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13F-D445-4CB2-A568-5FE6466441F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D43-512E-4165-98B3-E9DDCD29BF64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15" name="Text Box 52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6" name="Group 88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317" name="Line 89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AutoShape 90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Line 92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1" name="Line 93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2" name="Line 94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Rectangle 95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Line 96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AutoShape 97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6" name="Text Box 98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7" name="Line 99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8" name="AutoShape 100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9" name="Text Box 101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0" name="Line 102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1" name="AutoShape 103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2" name="Text Box 104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3" name="Line 105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4" name="AutoShape 106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5" name="Text Box 107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6" name="Line 108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7" name="AutoShape 109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8" name="Text Box 110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9" name="Line 111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0" name="AutoShape 112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1" name="Text Box 113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2" name="AutoShape 114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3" name="Text Box 115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4" name="Line 116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5" name="AutoShape 117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6" name="Text Box 118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F51F-A2A4-4E9E-85BE-A5DB1C40B31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958-1B4C-47CA-9090-B7A1444F1560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4. Finding potential applicant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Jobcentr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d by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free for businesses to 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Employment agenci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ten specialise in a particula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ge for thei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Head-hunter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d to recruit executives – Enticed away from other businesses (</a:t>
            </a:r>
            <a:r>
              <a:rPr b="1" lang="en-GB" sz="2400" spc="-1" strike="noStrike">
                <a:solidFill>
                  <a:srgbClr val="33019d"/>
                </a:solidFill>
                <a:latin typeface="Arial"/>
              </a:rPr>
              <a:t>golden hel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Advert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in the local, national or technical p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Word of mouth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ost common way in which people find out abou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2A6-F416-4D6B-AFC6-93E4588E7E5A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213-8594-4019-9523-952BCC213E7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Job adverts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9396360" y="662040"/>
            <a:ext cx="3888000" cy="1923480"/>
          </a:xfrm>
          <a:prstGeom prst="rect">
            <a:avLst/>
          </a:prstGeom>
          <a:solidFill>
            <a:srgbClr val="ffc9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any of the tasks on this presentation refer to ‘Climate Clothing’ – an independent fashion retail business situated in a local town. Allow the students to conjure up their own ideas as to exactly what this business is lik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0" name="Picture 6" descr="teacher's note button"/>
          <p:cNvPicPr/>
          <p:nvPr/>
        </p:nvPicPr>
        <p:blipFill>
          <a:blip r:embed="rId1"/>
          <a:stretch/>
        </p:blipFill>
        <p:spPr>
          <a:xfrm>
            <a:off x="7308720" y="115920"/>
            <a:ext cx="1714680" cy="36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pdf button"/>
          <p:cNvPicPr/>
          <p:nvPr/>
        </p:nvPicPr>
        <p:blipFill>
          <a:blip r:embed="rId2"/>
          <a:stretch/>
        </p:blipFill>
        <p:spPr>
          <a:xfrm>
            <a:off x="8532720" y="2674800"/>
            <a:ext cx="5144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73212 -1.85185E-006 E">
                                      <p:cBhvr>
                                        <p:cTn id="306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Next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9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D6E-DD98-4B5B-A264-BC8BBFC40ED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FE3-D4FD-407A-9E08-85D7ADD91160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66" name="Text Box 1076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7" name="Group 1109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368" name="Line 1110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AutoShape 1111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Text Box 1112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Line 1113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Line 1114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Line 1115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Rectangle 1116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Line 1117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AutoShape 1118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Text Box 1119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Line 1120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AutoShape 1121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Text Box 1122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Line 1123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AutoShape 1124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Text Box 1125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Line 1126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AutoShape 1127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Text Box 1128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Line 1129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AutoShape 1130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Text Box 1131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Line 1132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AutoShape 1133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Text Box 1134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AutoShape 1135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Text Box 1136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Line 1137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AutoShape 1138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Text Box 1139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279E-23C5-4FA2-A6F4-C44AEB711E2F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4918-5CAB-4E64-80C2-3B8B19E2EEA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s the basis fo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Curriculum Vitae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brief account of a candidate’s education, qualifications, experience an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of CV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ighlight things the applicant wishes to emphas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printed many times and sent to numerous potential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Application form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andardise the replies from applicants, making it easier to short-list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04" name="Picture 5" descr="more button"/>
          <p:cNvPicPr/>
          <p:nvPr/>
        </p:nvPicPr>
        <p:blipFill>
          <a:blip r:embed="rId1"/>
          <a:stretch/>
        </p:blipFill>
        <p:spPr>
          <a:xfrm>
            <a:off x="8317080" y="2836800"/>
            <a:ext cx="6476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F4E1-7B64-449E-A5E1-7B9798368527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4F3-28CA-4A16-ACB6-9426F7F4E7EE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CV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oduced by the applicants, usually following a standard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130400" y="2832120"/>
            <a:ext cx="2720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Personal detai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4284720" y="2832120"/>
            <a:ext cx="4611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me, address, date of birth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130400" y="3313080"/>
            <a:ext cx="2793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Education and qualifi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284720" y="3313080"/>
            <a:ext cx="438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chools, GCSEs, A-Level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130400" y="4194000"/>
            <a:ext cx="2720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Work exper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284720" y="4194000"/>
            <a:ext cx="438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liday job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1130400" y="4676760"/>
            <a:ext cx="3081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Other qualifications and achiev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4284720" y="4676760"/>
            <a:ext cx="4383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iving licence, lifeguard award, DofE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1130400" y="2349360"/>
            <a:ext cx="3373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4324320" y="2349360"/>
            <a:ext cx="172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1130400" y="5524560"/>
            <a:ext cx="2720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4284720" y="5524560"/>
            <a:ext cx="4381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orts, hobbie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3" name="Picture 18" descr="back button"/>
          <p:cNvPicPr/>
          <p:nvPr/>
        </p:nvPicPr>
        <p:blipFill>
          <a:blip r:embed="rId1"/>
          <a:stretch/>
        </p:blipFill>
        <p:spPr>
          <a:xfrm>
            <a:off x="7524720" y="6453360"/>
            <a:ext cx="961920" cy="36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991-D4B7-4A65-A6E8-B20B2A1F4661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F934-AC5A-442C-8115-0E24EF5F0813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Accompanying letter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pplicant explains why she wants the job and is particularly suited to th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plicant’s chance to show that they are liter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19d"/>
                </a:solidFill>
                <a:latin typeface="Arial"/>
              </a:rPr>
              <a:t>It is vital that the letter and CV/application form are well-presented with NO spelling mis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1068480" y="442440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19d"/>
                </a:solidFill>
                <a:latin typeface="Arial"/>
              </a:rPr>
              <a:t>It is vital that the letter and CV/application form are well-presented with NO spelling mistak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700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59AB-3411-4C40-BAF7-0C5D43D975B9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23E-2A77-4081-9EDE-35BB58820B5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35" name="Text Box 1075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6" name="Group 1110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437" name="Line 1111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AutoShape 1112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Text Box 1113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0" name="Line 1114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1" name="Line 1115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2" name="Line 1116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3" name="Rectangle 1117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4" name="Line 1118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5" name="AutoShape 1119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6" name="Text Box 1120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7" name="Line 1121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8" name="AutoShape 1122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9" name="Text Box 1123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0" name="Line 1124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1" name="AutoShape 1125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2" name="Text Box 1126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3" name="Line 1127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4" name="AutoShape 1128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5" name="Text Box 1129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6" name="Line 1130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7" name="AutoShape 1131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8" name="Text Box 1132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9" name="Line 1133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0" name="AutoShape 1134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1" name="Text Box 1135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2" name="AutoShape 1136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3" name="Text Box 1137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4" name="Line 1138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5" name="AutoShape 1139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6" name="Text Box 1140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FCA-33AC-4575-B441-468969D865E5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D27-9EAE-4200-888D-52F3BE23AE9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Selecting for interview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ve candidates have applied for the job but time constraints make it possible to only interview two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objective</a:t>
            </a:r>
            <a:r>
              <a:rPr b="0" lang="en-GB" sz="2800" spc="-1" strike="noStrike">
                <a:solidFill>
                  <a:srgbClr val="da87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selection proced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 be used to select your interview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3" name="Picture 5" descr="more button"/>
          <p:cNvPicPr/>
          <p:nvPr/>
        </p:nvPicPr>
        <p:blipFill>
          <a:blip r:embed="rId1"/>
          <a:stretch/>
        </p:blipFill>
        <p:spPr>
          <a:xfrm>
            <a:off x="8317080" y="5445000"/>
            <a:ext cx="647640" cy="3049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"/>
          <p:cNvSpPr/>
          <p:nvPr/>
        </p:nvSpPr>
        <p:spPr>
          <a:xfrm>
            <a:off x="9398160" y="1268280"/>
            <a:ext cx="7343640" cy="4147560"/>
          </a:xfrm>
          <a:prstGeom prst="rect">
            <a:avLst/>
          </a:prstGeom>
          <a:solidFill>
            <a:srgbClr val="ffc1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 open question is one in which the interviewee has the opportunity to express him/herself. Open questions often start with ‘why’ or ‘how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losed questions have a limited set of responses (often yes/no and might typically start with the word ‘what’, ‘where’ or ‘who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sider the difference between these two ques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98560" indent="-360360">
              <a:lnSpc>
                <a:spcPct val="100000"/>
              </a:lnSpc>
              <a:spcBef>
                <a:spcPts val="1500"/>
              </a:spcBef>
              <a:buClr>
                <a:srgbClr val="4a004b"/>
              </a:buClr>
              <a:buSzPct val="7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did you go to schoo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98560" indent="-360360">
              <a:lnSpc>
                <a:spcPct val="100000"/>
              </a:lnSpc>
              <a:spcBef>
                <a:spcPts val="1500"/>
              </a:spcBef>
              <a:buClr>
                <a:srgbClr val="4a004b"/>
              </a:buClr>
              <a:buSzPct val="7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did you gain from your experiences in schoo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5" name="Picture 7" descr="pdf button"/>
          <p:cNvPicPr/>
          <p:nvPr/>
        </p:nvPicPr>
        <p:blipFill>
          <a:blip r:embed="rId2"/>
          <a:stretch/>
        </p:blipFill>
        <p:spPr>
          <a:xfrm>
            <a:off x="8459640" y="2565360"/>
            <a:ext cx="5144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-0.91354 4.81481E-006 E">
                                      <p:cBhvr>
                                        <p:cTn id="466" dur="5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Next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D560-0235-4580-AEED-877FF448894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EAF-11CA-4857-B617-2A52953BB95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need for effective recruit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sure that the best person is chosen for a job, the HRM department must be clear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job en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qualifications are required to do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rewards are needed to retain and motivate the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18AD-14D0-4401-A2D5-861A124DDB3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3D7-9B3F-4B75-98DB-E0DB5887F8F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6. Interview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ing received CVs and accompanying letters, the company is in a position to begin the selection process. A short-list of applicants will be selected fo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terview is a two-way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viewer wants to find out whether the applicant would be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viewee is trying to decide whether the job and the business is right for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ism: Interviewers often make up their minds within a couple of minutes – sometimes even when the candidate enters the 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24A-9A74-45EA-85B3-429483AE63BF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3296-8E87-456E-8D32-F8AC12DB371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sinesses sometimes use </a:t>
            </a: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aptitu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psychometric tes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tests of mental ability) to try to assess a candidate’s su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8" name="Picture 7" descr="teacher's note button"/>
          <p:cNvPicPr/>
          <p:nvPr/>
        </p:nvPicPr>
        <p:blipFill>
          <a:blip r:embed="rId1"/>
          <a:stretch/>
        </p:blipFill>
        <p:spPr>
          <a:xfrm>
            <a:off x="7236000" y="189000"/>
            <a:ext cx="1714320" cy="3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0"/>
          <p:cNvGrpSpPr/>
          <p:nvPr/>
        </p:nvGrpSpPr>
        <p:grpSpPr>
          <a:xfrm>
            <a:off x="9685440" y="3586320"/>
            <a:ext cx="5688000" cy="2288520"/>
            <a:chOff x="9685440" y="3586320"/>
            <a:chExt cx="5688000" cy="2288520"/>
          </a:xfrm>
        </p:grpSpPr>
        <p:sp>
          <p:nvSpPr>
            <p:cNvPr id="490" name="Text Box 8"/>
            <p:cNvSpPr/>
            <p:nvPr/>
          </p:nvSpPr>
          <p:spPr>
            <a:xfrm>
              <a:off x="9685440" y="3586320"/>
              <a:ext cx="5688000" cy="2288520"/>
            </a:xfrm>
            <a:prstGeom prst="rect">
              <a:avLst/>
            </a:prstGeom>
            <a:solidFill>
              <a:srgbClr val="ffc1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 free online psychometric test can be found at peoplemaps.com. Click on the link under ‘Job Seekers’.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Note that at the end of the test you need to register and provide an email address (false???) in order to get to the screen showing the report.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491" name="Picture 5" descr="www button"/>
            <p:cNvPicPr/>
            <p:nvPr/>
          </p:nvPicPr>
          <p:blipFill>
            <a:blip r:embed="rId2"/>
            <a:stretch/>
          </p:blipFill>
          <p:spPr>
            <a:xfrm>
              <a:off x="10944360" y="4403880"/>
              <a:ext cx="628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83073 -2.59259E-006 E">
                                      <p:cBhvr>
                                        <p:cTn id="512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evt="onNext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5" dur="1" fill="hold"/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1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57B-0A63-46EC-8A42-FDBE52A2678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919B-FB7F-47B5-B6F5-AB4FB4DF79B3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WordArt 6"/>
          <p:cNvSpPr txBox="1"/>
          <p:nvPr/>
        </p:nvSpPr>
        <p:spPr>
          <a:xfrm rot="16200000">
            <a:off x="-2867400" y="2928240"/>
            <a:ext cx="6742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sychometric profil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7" name="Picture 8" descr=""/>
          <p:cNvPicPr/>
          <p:nvPr/>
        </p:nvPicPr>
        <p:blipFill>
          <a:blip r:embed="rId3"/>
          <a:stretch/>
        </p:blipFill>
        <p:spPr>
          <a:xfrm rot="180000">
            <a:off x="2050920" y="189000"/>
            <a:ext cx="541188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8E4B-C091-434A-8368-D666DBB35C9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9B6-B500-44D4-A37E-870B66091080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02" name="Text Box 52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03" name="Group 5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04" name="Line 5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5" name="AutoShape 5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6" name="Text Box 5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7" name="Line 5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8" name="Line 5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9" name="Line 6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0" name="Rectangle 6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2" name="AutoShape 6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3" name="Text Box 6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4" name="Line 6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5" name="AutoShape 6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6" name="Text Box 6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7" name="Line 6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8" name="AutoShape 6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9" name="Text Box 7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0" name="Line 7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1" name="AutoShape 7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2" name="Text Box 7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3" name="Line 7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4" name="AutoShape 7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5" name="Text Box 7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6" name="Line 7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7" name="AutoShape 7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8" name="Text Box 7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9" name="AutoShape 8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0" name="Text Box 8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1" name="Line 8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2" name="AutoShape 8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3" name="Text Box 8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FE5-E19D-4312-B98F-434DBA57229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5734-3982-43E0-A4B3-F7C9F637F3D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7. Selec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st candidate is 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cision makers must be careful to avoid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for a popular but weak internal candidate over an excellent external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D6B-D03E-4106-BE13-88A8692BF025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2DA0-38B6-4DC9-A8D8-69C0EC65C213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44" name="Text Box 50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45" name="Group 52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46" name="Line 53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7" name="AutoShape 54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8" name="Text Box 55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0" name="Line 57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1" name="Line 58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2" name="Rectangle 59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3" name="Line 60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4" name="AutoShape 61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5" name="Text Box 62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6" name="Line 63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7" name="AutoShape 64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8" name="Text Box 65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9" name="Line 66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0" name="AutoShape 67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1" name="Text Box 68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2" name="Line 69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3" name="AutoShape 70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4" name="Text Box 71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5" name="Line 72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6" name="AutoShape 73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7" name="Text Box 74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8" name="Line 75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9" name="AutoShape 76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0" name="Text Box 77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1" name="AutoShape 78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2" name="Text Box 79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3" name="Line 80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4" name="AutoShape 81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5" name="Text Box 82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DB3A-5CAF-4887-A7E8-9EAB3E84A6B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972-6DC0-4DD5-87A6-C3C690245DF1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7. Check reference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mployer shouldn’t fail to send off for a reference typically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ast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al acquain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former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references can be insightful – often for what the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bout reliability – getting homework in on tim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0B89-56E4-4A7D-9465-1E80F60A86D1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F3A2-E2EC-4602-8F72-04C658C27896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86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7" name="Group 53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88" name="Line 54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9" name="AutoShape 55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0" name="Text Box 56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1" name="Line 57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2" name="Line 58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3" name="Line 59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4" name="Rectangle 60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5" name="Line 61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6" name="AutoShape 62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7" name="Text Box 63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8" name="Line 64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9" name="AutoShape 65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0" name="Text Box 66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1" name="Line 67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2" name="AutoShape 68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3" name="Text Box 69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4" name="Line 70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5" name="AutoShape 71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6" name="Text Box 72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7" name="Line 73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8" name="AutoShape 74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9" name="Text Box 75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0" name="Line 76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1" name="AutoShape 77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2" name="Text Box 78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AutoShape 79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Text Box 80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5" name="Line 81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6" name="AutoShape 82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7" name="Text Box 83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1341-7F0F-4883-A150-8F29D7C7FE57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AD9-5FDF-401D-95BF-EFAAF8224DE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9. Contract of employ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ritten document detailing an employee’s terms and conditions of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4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425-41D8-42FB-A974-0C1FC02E2EB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Slide Number Placeholder 6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8FC-4403-4652-AA49-CF50F20E974D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Contract of employment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82480" y="3141360"/>
            <a:ext cx="359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Parties to the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ate of comme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Place of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ours of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28840" y="31413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oliday entit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ick p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ievance and disciplinary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Notice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Employee discou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974880" y="1636560"/>
            <a:ext cx="786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a005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headings are used by a major retailer in their sales assistants’ employment contr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AAF-8F72-4D2E-BC93-127522D550D2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D34-DB7C-476E-81A8-789E5B527650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Recruit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Internal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usiness appoints a current employee to a vac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External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en an employee is appointed from outside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931-9FFB-416E-BB99-B20575E2ED6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9BA-9F04-40AD-97B1-FDFF27D24874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5" name="Group 57"/>
          <p:cNvGrpSpPr/>
          <p:nvPr/>
        </p:nvGrpSpPr>
        <p:grpSpPr>
          <a:xfrm>
            <a:off x="6434280" y="2789280"/>
            <a:ext cx="1577880" cy="1644480"/>
            <a:chOff x="6434280" y="2789280"/>
            <a:chExt cx="1577880" cy="1644480"/>
          </a:xfrm>
        </p:grpSpPr>
        <p:sp>
          <p:nvSpPr>
            <p:cNvPr id="126" name="Line 16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6434280" y="327960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 Narro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130" name="Group 51"/>
          <p:cNvGrpSpPr/>
          <p:nvPr/>
        </p:nvGrpSpPr>
        <p:grpSpPr>
          <a:xfrm>
            <a:off x="3441240" y="4235040"/>
            <a:ext cx="3816720" cy="544680"/>
            <a:chOff x="3441240" y="4235040"/>
            <a:chExt cx="3816720" cy="544680"/>
          </a:xfrm>
        </p:grpSpPr>
        <p:sp>
          <p:nvSpPr>
            <p:cNvPr id="131" name="Line 12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440604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5" name="Group 53"/>
          <p:cNvGrpSpPr/>
          <p:nvPr/>
        </p:nvGrpSpPr>
        <p:grpSpPr>
          <a:xfrm>
            <a:off x="3822840" y="4952880"/>
            <a:ext cx="2090160" cy="1133640"/>
            <a:chOff x="3822840" y="4952880"/>
            <a:chExt cx="2090160" cy="1133640"/>
          </a:xfrm>
        </p:grpSpPr>
        <p:sp>
          <p:nvSpPr>
            <p:cNvPr id="136" name="Line 18"/>
            <p:cNvSpPr/>
            <p:nvPr/>
          </p:nvSpPr>
          <p:spPr>
            <a:xfrm>
              <a:off x="3822840" y="557856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37" name="Group 44"/>
            <p:cNvGrpSpPr/>
            <p:nvPr/>
          </p:nvGrpSpPr>
          <p:grpSpPr>
            <a:xfrm>
              <a:off x="4307760" y="4952880"/>
              <a:ext cx="1605240" cy="1133640"/>
              <a:chOff x="4307760" y="4952880"/>
              <a:chExt cx="1605240" cy="1133640"/>
            </a:xfrm>
          </p:grpSpPr>
          <p:sp>
            <p:nvSpPr>
              <p:cNvPr id="138" name="AutoShape 10"/>
              <p:cNvSpPr/>
              <p:nvPr/>
            </p:nvSpPr>
            <p:spPr>
              <a:xfrm>
                <a:off x="4307760" y="4967280"/>
                <a:ext cx="1605240" cy="111924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heck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references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4327920" y="4952880"/>
                <a:ext cx="46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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0" name="Group 52"/>
          <p:cNvGrpSpPr/>
          <p:nvPr/>
        </p:nvGrpSpPr>
        <p:grpSpPr>
          <a:xfrm>
            <a:off x="2209680" y="4441680"/>
            <a:ext cx="1605240" cy="1644840"/>
            <a:chOff x="2209680" y="4441680"/>
            <a:chExt cx="1605240" cy="1644840"/>
          </a:xfrm>
        </p:grpSpPr>
        <p:sp>
          <p:nvSpPr>
            <p:cNvPr id="141" name="Line 26"/>
            <p:cNvSpPr/>
            <p:nvPr/>
          </p:nvSpPr>
          <p:spPr>
            <a:xfrm>
              <a:off x="306036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42" name="Group 43"/>
            <p:cNvGrpSpPr/>
            <p:nvPr/>
          </p:nvGrpSpPr>
          <p:grpSpPr>
            <a:xfrm>
              <a:off x="2209680" y="4929120"/>
              <a:ext cx="1605240" cy="1157400"/>
              <a:chOff x="2209680" y="4929120"/>
              <a:chExt cx="1605240" cy="1157400"/>
            </a:xfrm>
          </p:grpSpPr>
          <p:sp>
            <p:nvSpPr>
              <p:cNvPr id="143" name="AutoShape 24"/>
              <p:cNvSpPr/>
              <p:nvPr/>
            </p:nvSpPr>
            <p:spPr>
              <a:xfrm>
                <a:off x="2209680" y="4967280"/>
                <a:ext cx="1605240" cy="111924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6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Selec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2295720" y="492912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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5" name="Group 49"/>
          <p:cNvGrpSpPr/>
          <p:nvPr/>
        </p:nvGrpSpPr>
        <p:grpSpPr>
          <a:xfrm>
            <a:off x="4307040" y="3279600"/>
            <a:ext cx="2187000" cy="1154160"/>
            <a:chOff x="4307040" y="3279600"/>
            <a:chExt cx="2187000" cy="1154160"/>
          </a:xfrm>
        </p:grpSpPr>
        <p:sp>
          <p:nvSpPr>
            <p:cNvPr id="146" name="Line 17"/>
            <p:cNvSpPr/>
            <p:nvPr/>
          </p:nvSpPr>
          <p:spPr>
            <a:xfrm flipH="1">
              <a:off x="592092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47" name="Group 41"/>
            <p:cNvGrpSpPr/>
            <p:nvPr/>
          </p:nvGrpSpPr>
          <p:grpSpPr>
            <a:xfrm>
              <a:off x="4307040" y="3279600"/>
              <a:ext cx="1606680" cy="1154160"/>
              <a:chOff x="4307040" y="3279600"/>
              <a:chExt cx="1606680" cy="1154160"/>
            </a:xfrm>
          </p:grpSpPr>
          <p:sp>
            <p:nvSpPr>
              <p:cNvPr id="148" name="AutoShape 23"/>
              <p:cNvSpPr/>
              <p:nvPr/>
            </p:nvSpPr>
            <p:spPr>
              <a:xfrm>
                <a:off x="4307040" y="3313080"/>
                <a:ext cx="1606680" cy="112068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4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V or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form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Text Box 31"/>
              <p:cNvSpPr/>
              <p:nvPr/>
            </p:nvSpPr>
            <p:spPr>
              <a:xfrm>
                <a:off x="4404600" y="3279600"/>
                <a:ext cx="4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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50" name="Group 50"/>
          <p:cNvGrpSpPr/>
          <p:nvPr/>
        </p:nvGrpSpPr>
        <p:grpSpPr>
          <a:xfrm>
            <a:off x="2209680" y="3276720"/>
            <a:ext cx="2090160" cy="1157040"/>
            <a:chOff x="2209680" y="3276720"/>
            <a:chExt cx="2090160" cy="1157040"/>
          </a:xfrm>
        </p:grpSpPr>
        <p:sp>
          <p:nvSpPr>
            <p:cNvPr id="151" name="Line 25"/>
            <p:cNvSpPr/>
            <p:nvPr/>
          </p:nvSpPr>
          <p:spPr>
            <a:xfrm flipH="1">
              <a:off x="382212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2" name="Group 42"/>
            <p:cNvGrpSpPr/>
            <p:nvPr/>
          </p:nvGrpSpPr>
          <p:grpSpPr>
            <a:xfrm>
              <a:off x="2209680" y="3276720"/>
              <a:ext cx="1605600" cy="1157040"/>
              <a:chOff x="2209680" y="3276720"/>
              <a:chExt cx="1605600" cy="1157040"/>
            </a:xfrm>
          </p:grpSpPr>
          <p:sp>
            <p:nvSpPr>
              <p:cNvPr id="153" name="AutoShape 9"/>
              <p:cNvSpPr/>
              <p:nvPr/>
            </p:nvSpPr>
            <p:spPr>
              <a:xfrm>
                <a:off x="2209680" y="3313080"/>
                <a:ext cx="1605600" cy="112068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Interview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(&amp; test)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2223000" y="3276720"/>
                <a:ext cx="4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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55" name="Group 47"/>
          <p:cNvGrpSpPr/>
          <p:nvPr/>
        </p:nvGrpSpPr>
        <p:grpSpPr>
          <a:xfrm>
            <a:off x="5921280" y="1603440"/>
            <a:ext cx="2090520" cy="1176120"/>
            <a:chOff x="5921280" y="1603440"/>
            <a:chExt cx="2090520" cy="1176120"/>
          </a:xfrm>
        </p:grpSpPr>
        <p:sp>
          <p:nvSpPr>
            <p:cNvPr id="156" name="Line 15"/>
            <p:cNvSpPr/>
            <p:nvPr/>
          </p:nvSpPr>
          <p:spPr>
            <a:xfrm>
              <a:off x="5921280" y="2271600"/>
              <a:ext cx="57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7" name="Group 39"/>
            <p:cNvGrpSpPr/>
            <p:nvPr/>
          </p:nvGrpSpPr>
          <p:grpSpPr>
            <a:xfrm>
              <a:off x="6501240" y="1603440"/>
              <a:ext cx="1510560" cy="1176120"/>
              <a:chOff x="6501240" y="1603440"/>
              <a:chExt cx="1510560" cy="1176120"/>
            </a:xfrm>
          </p:grpSpPr>
          <p:sp>
            <p:nvSpPr>
              <p:cNvPr id="158" name="AutoShape 7"/>
              <p:cNvSpPr/>
              <p:nvPr/>
            </p:nvSpPr>
            <p:spPr>
              <a:xfrm>
                <a:off x="6501240" y="1660680"/>
                <a:ext cx="1510560" cy="1118880"/>
              </a:xfrm>
              <a:prstGeom prst="roundRect">
                <a:avLst>
                  <a:gd name="adj" fmla="val 24046"/>
                </a:avLst>
              </a:prstGeom>
              <a:solidFill>
                <a:srgbClr val="da8700">
                  <a:alpha val="2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Pers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specifica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Text Box 33"/>
              <p:cNvSpPr/>
              <p:nvPr/>
            </p:nvSpPr>
            <p:spPr>
              <a:xfrm>
                <a:off x="6512040" y="1603440"/>
                <a:ext cx="4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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60" name="Group 46"/>
          <p:cNvGrpSpPr/>
          <p:nvPr/>
        </p:nvGrpSpPr>
        <p:grpSpPr>
          <a:xfrm>
            <a:off x="3822840" y="1603440"/>
            <a:ext cx="2090160" cy="1176120"/>
            <a:chOff x="3822840" y="1603440"/>
            <a:chExt cx="2090160" cy="1176120"/>
          </a:xfrm>
        </p:grpSpPr>
        <p:sp>
          <p:nvSpPr>
            <p:cNvPr id="161" name="Line 22"/>
            <p:cNvSpPr/>
            <p:nvPr/>
          </p:nvSpPr>
          <p:spPr>
            <a:xfrm>
              <a:off x="3822840" y="227160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2" name="Group 38"/>
            <p:cNvGrpSpPr/>
            <p:nvPr/>
          </p:nvGrpSpPr>
          <p:grpSpPr>
            <a:xfrm>
              <a:off x="4307760" y="1603440"/>
              <a:ext cx="1605240" cy="1176120"/>
              <a:chOff x="4307760" y="1603440"/>
              <a:chExt cx="1605240" cy="1176120"/>
            </a:xfrm>
          </p:grpSpPr>
          <p:sp>
            <p:nvSpPr>
              <p:cNvPr id="163" name="AutoShape 6"/>
              <p:cNvSpPr/>
              <p:nvPr/>
            </p:nvSpPr>
            <p:spPr>
              <a:xfrm>
                <a:off x="4307760" y="1660680"/>
                <a:ext cx="1605240" cy="111888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1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Job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descrip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Text Box 34"/>
              <p:cNvSpPr/>
              <p:nvPr/>
            </p:nvSpPr>
            <p:spPr>
              <a:xfrm>
                <a:off x="4333680" y="160344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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65" name="Group 37"/>
          <p:cNvGrpSpPr/>
          <p:nvPr/>
        </p:nvGrpSpPr>
        <p:grpSpPr>
          <a:xfrm>
            <a:off x="2209680" y="1617840"/>
            <a:ext cx="1605240" cy="1161720"/>
            <a:chOff x="2209680" y="1617840"/>
            <a:chExt cx="1605240" cy="1161720"/>
          </a:xfrm>
        </p:grpSpPr>
        <p:sp>
          <p:nvSpPr>
            <p:cNvPr id="166" name="AutoShape 21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221868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8" name="Group 54"/>
          <p:cNvGrpSpPr/>
          <p:nvPr/>
        </p:nvGrpSpPr>
        <p:grpSpPr>
          <a:xfrm>
            <a:off x="5921280" y="4952880"/>
            <a:ext cx="2090520" cy="1133640"/>
            <a:chOff x="5921280" y="4952880"/>
            <a:chExt cx="2090520" cy="1133640"/>
          </a:xfrm>
        </p:grpSpPr>
        <p:sp>
          <p:nvSpPr>
            <p:cNvPr id="169" name="Line 19"/>
            <p:cNvSpPr/>
            <p:nvPr/>
          </p:nvSpPr>
          <p:spPr>
            <a:xfrm>
              <a:off x="592128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70" name="Group 45"/>
            <p:cNvGrpSpPr/>
            <p:nvPr/>
          </p:nvGrpSpPr>
          <p:grpSpPr>
            <a:xfrm>
              <a:off x="6406200" y="4952880"/>
              <a:ext cx="1605600" cy="1133640"/>
              <a:chOff x="6406200" y="4952880"/>
              <a:chExt cx="1605600" cy="1133640"/>
            </a:xfrm>
          </p:grpSpPr>
          <p:sp>
            <p:nvSpPr>
              <p:cNvPr id="171" name="AutoShape 11"/>
              <p:cNvSpPr/>
              <p:nvPr/>
            </p:nvSpPr>
            <p:spPr>
              <a:xfrm>
                <a:off x="6406200" y="4967280"/>
                <a:ext cx="1605600" cy="111924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9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Employment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ontract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Text Box 36"/>
              <p:cNvSpPr/>
              <p:nvPr/>
            </p:nvSpPr>
            <p:spPr>
              <a:xfrm>
                <a:off x="6445080" y="495288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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73" name="Text Box 55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030F-8B10-4106-B2F3-A96600B8D498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03D-3449-43E9-8072-436B14BD7DB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179" name="Line 3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" name="Text Box 22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Text Box 32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Line 3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9" name="AutoShape 36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" name="Text Box 37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" name="Line 39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" name="AutoShape 41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42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AutoShape 44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Text Box 45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Line 47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AutoShape 49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09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965-D614-45B7-8F20-2D050F5BA21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0BE-AE68-4809-BCEA-D59BE268FED4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1. Job analysi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ob is broken down into its component parts in order to identify exactly what the holder is requir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s the business to identify the role and the ideal rec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1184-0BF3-432E-BD51-A7F64825DC41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342C-B6AD-41D6-9032-96767D0B096F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20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1" name="Group 8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222" name="Line 8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3" name="AutoShape 8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Text Box 8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5" name="Line 8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6" name="Line 8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7" name="Line 9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8" name="Rectangle 9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9" name="Line 9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0" name="AutoShape 9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1" name="Text Box 9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2" name="Line 9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3" name="AutoShape 9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Text Box 9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5" name="Line 9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AutoShape 9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Text Box 10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8" name="Line 10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9" name="AutoShape 10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0" name="Text Box 10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Line 10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2" name="AutoShape 10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Text Box 10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4" name="Line 10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5" name="AutoShape 10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6" name="Text Box 10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7" name="AutoShape 11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8" name="Text Box 11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9" name="Line 11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0" name="AutoShape 11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1" name="Text Box 11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41CD-98E9-447D-8748-B63290606292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B8A-4EC6-4A00-8C7C-3BF82EB6CB1E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2. Job descrip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a business has analysed what a job entails, it is important to draw up a description of the j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066680" y="3200400"/>
            <a:ext cx="3505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General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570560" y="3200400"/>
            <a:ext cx="4421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ob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ob summa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066680" y="4384800"/>
            <a:ext cx="3505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Job content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570560" y="4384800"/>
            <a:ext cx="4421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asks involved and purpo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ther du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ponsibility (to who and for who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066680" y="558972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Working condi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4570560" y="5589720"/>
            <a:ext cx="4421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urs, holidays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066680" y="6108840"/>
            <a:ext cx="350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Performance measur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4570560" y="6108840"/>
            <a:ext cx="4421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iteria for measuring perform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66" name="Group 32"/>
          <p:cNvGrpSpPr/>
          <p:nvPr/>
        </p:nvGrpSpPr>
        <p:grpSpPr>
          <a:xfrm>
            <a:off x="5701680" y="0"/>
            <a:ext cx="3442320" cy="307080"/>
            <a:chOff x="5701680" y="0"/>
            <a:chExt cx="3442320" cy="307080"/>
          </a:xfrm>
        </p:grpSpPr>
        <p:pic>
          <p:nvPicPr>
            <p:cNvPr id="267" name="Picture 33" descr="pdf button"/>
            <p:cNvPicPr/>
            <p:nvPr/>
          </p:nvPicPr>
          <p:blipFill>
            <a:blip r:embed="rId1"/>
            <a:stretch/>
          </p:blipFill>
          <p:spPr>
            <a:xfrm>
              <a:off x="8629560" y="0"/>
              <a:ext cx="51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4"/>
            <p:cNvSpPr/>
            <p:nvPr/>
          </p:nvSpPr>
          <p:spPr>
            <a:xfrm>
              <a:off x="5701680" y="0"/>
              <a:ext cx="30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019d"/>
                  </a:solidFill>
                  <a:latin typeface="Arial Narrow"/>
                </a:rPr>
                <a:t>Climate Clothing job description gap fill task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814-7D8C-4EFD-8810-499303FAEE7B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3F1C-A923-4474-B4F3-897DF64001B4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73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4" name="Group 8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275" name="Line 8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6" name="AutoShape 8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7" name="Text Box 8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8" name="Line 8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9" name="Line 8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0" name="Line 9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1" name="Rectangle 9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2" name="Line 9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3" name="AutoShape 9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4" name="Text Box 9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5" name="Line 9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6" name="AutoShape 9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7" name="Text Box 9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8" name="Line 9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9" name="AutoShape 9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0" name="Text Box 10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1" name="Line 10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AutoShape 10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Text Box 10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Line 10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AutoShape 10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Text Box 10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Line 10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AutoShape 10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9" name="Text Box 10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0" name="AutoShape 11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1" name="Text Box 11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2" name="Line 11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3" name="AutoShape 11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4" name="Text Box 11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20:32:19Z</dcterms:created>
  <dc:creator>Graham Crewe</dc:creator>
  <dc:description/>
  <dc:language>en-US</dc:language>
  <cp:lastModifiedBy>Ernest Reichelt</cp:lastModifiedBy>
  <dcterms:modified xsi:type="dcterms:W3CDTF">2013-06-21T01:23:22Z</dcterms:modified>
  <cp:revision>68</cp:revision>
  <dc:subject/>
  <dc:title>The recruitment process</dc:title>
</cp:coreProperties>
</file>